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A0C3C-6332-4D0D-A0B5-4431FF63A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31AF-6B4A-4DCF-B60B-E8DAB0817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C98DC-5924-4B02-8148-1FFA25BB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D1058-94B5-4F02-BDA8-A3D9BCBFF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9EAC-5508-4307-B8FE-56994D003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3984-A7CC-49BF-9B1A-DDF54B432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35D4-56B3-4116-9A54-E1DFD4BD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7A3D-EF4D-4AE3-9479-E1C164A4B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B784-2E92-416A-8FAD-B0F05A86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32D5-955C-4FE8-9A49-81BD67359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8163-5DB6-4F72-B05E-0183C5E0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235F-7A73-4AF0-AACC-A045CC66A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8A3F-22EF-4693-A8AB-2BD395278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Who is more accurate on free throws? Tall or short people.</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 Nick Schiss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People</a:t>
            </a:r>
            <a:endParaRPr b="0" lang="en-US" sz="4900" spc="-1" strike="noStrike">
              <a:solidFill>
                <a:srgbClr val="000000"/>
              </a:solidFill>
              <a:latin typeface="Times New Roman"/>
            </a:endParaRPr>
          </a:p>
        </p:txBody>
      </p:sp>
      <p:sp>
        <p:nvSpPr>
          <p:cNvPr id="60" name="PlaceHolder 2"/>
          <p:cNvSpPr>
            <a:spLocks noGrp="1"/>
          </p:cNvSpPr>
          <p:nvPr>
            <p:ph type="subTitle"/>
          </p:nvPr>
        </p:nvSpPr>
        <p:spPr>
          <a:xfrm>
            <a:off x="552240" y="1828800"/>
            <a:ext cx="439884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 Peopl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ve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y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yan</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se</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ane</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
          <p:cNvSpPr/>
          <p:nvPr/>
        </p:nvSpPr>
        <p:spPr>
          <a:xfrm>
            <a:off x="5208480" y="1828800"/>
            <a:ext cx="4399200" cy="4052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ort People</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ma</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ra</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ik</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eb H</a:t>
            </a:r>
            <a:endParaRPr b="0" lang="en-US" sz="4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eb M</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sults</a:t>
            </a:r>
            <a:endParaRPr b="0" lang="en-US" sz="4900" spc="-1" strike="noStrike">
              <a:solidFill>
                <a:srgbClr val="000000"/>
              </a:solidFill>
              <a:latin typeface="Times New Roman"/>
            </a:endParaRPr>
          </a:p>
        </p:txBody>
      </p:sp>
      <p:sp>
        <p:nvSpPr>
          <p:cNvPr id="6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er Player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yan: made 8, missed 2, 8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se: made 5, missed 5, 5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ys: made 3, missed 7, 3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ven: made 6, missed 4, 6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ane: made 4, missed 6, 4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sults</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er Players</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eb H: made 10, missed 0, 10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eb M: made 3, missed 7, 3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ma L: made 6, missed 4, 60%  </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ik: made 1, missed 9, 10%</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rra: made 1, missed 9, 1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ajor Observation</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 observed the shorter shooters would put more power into their shots than the taller players.  I felt some of them were nervous during the test when I was observing them.  Some held the ball differently than others and some of them jumped during the shot.  Their pre-shot habit was different such as some dribbling prior to shooting.</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clusion</a:t>
            </a:r>
            <a:endParaRPr b="0" lang="en-US" sz="4300" spc="-1" strike="noStrike">
              <a:solidFill>
                <a:srgbClr val="000000"/>
              </a:solidFill>
              <a:latin typeface="Times New Roman"/>
            </a:endParaRPr>
          </a:p>
        </p:txBody>
      </p:sp>
      <p:sp>
        <p:nvSpPr>
          <p:cNvPr id="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results were totaled with the taller group making 26/50 (52%) of shots and the shorter group making 21/50 (42%).  My prediction was incorrect in this test with the taller players having   10% more accuracy.  With the young players and limited amount of skills, this test could vary each time it is done.</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troduction</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asketball is a game I enjoy and feel that smaller players have an advantage over taller players when shooting free throws. I predict that shorter players will shoot more accuratel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7960" y="296640"/>
            <a:ext cx="9663120" cy="95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Problem</a:t>
            </a:r>
            <a:endParaRPr b="0" lang="en-US" sz="64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oes height have an advantage on the shooting percentage of a basketball playe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Hypothesis</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predict the short players would be more accurate on their free throw shooting percentage.  Their shooting range is longer because they play the guard posi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85c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ackground Information</a:t>
            </a:r>
            <a:endParaRPr b="0" lang="en-US" sz="4300" spc="-1" strike="noStrike">
              <a:solidFill>
                <a:srgbClr val="000000"/>
              </a:solidFill>
              <a:latin typeface="Times New Roman"/>
            </a:endParaRPr>
          </a:p>
        </p:txBody>
      </p:sp>
      <p:sp>
        <p:nvSpPr>
          <p:cNvPr id="50" name="PlaceHolder 2"/>
          <p:cNvSpPr>
            <a:spLocks noGrp="1"/>
          </p:cNvSpPr>
          <p:nvPr>
            <p:ph/>
          </p:nvPr>
        </p:nvSpPr>
        <p:spPr>
          <a:xfrm>
            <a:off x="244440" y="1828440"/>
            <a:ext cx="9671040" cy="5489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lease height of the basketball shot is largely determined by the height of the player shooting.  A study by Professor John Fontanella shows the ideal angles from the free throw line are as follow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4" player should launch the ball at a 52.2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8" player should launch the ball at a 51.5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0" player should launch the ball at a 50.8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4" player should launch the ball at a 50.1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6'8" player should launch the ball at a 49.4 degree angl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best free throw shooters in the NBA routinely make over 90% of their free throw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ee throw is an aspect of your basketball game that you can potentially get close to perfecting with consistent practice, as the shot is based on balance and muscle memory.</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order to become a great shooter, you have to learn to control your thinking.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06400" y="2417400"/>
            <a:ext cx="8547120" cy="1531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aterials</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1568520" y="4368960"/>
            <a:ext cx="7022880" cy="1861920"/>
          </a:xfrm>
          <a:prstGeom prst="rect">
            <a:avLst/>
          </a:prstGeom>
          <a:noFill/>
          <a:ln w="0">
            <a:noFill/>
          </a:ln>
        </p:spPr>
        <p:txBody>
          <a:bodyPr lIns="0" rIns="0" tIns="0" bIns="0" anchor="t">
            <a:noAutofit/>
          </a:bodyPr>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cil/Pen</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 Goal</a:t>
            </a:r>
            <a:endParaRPr b="0" lang="en-US" sz="27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ketball Cour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aa84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Procedure</a:t>
            </a:r>
            <a:endParaRPr b="0" lang="en-US" sz="5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et a 28.5 size basketball</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et 5 short and 5 tall students</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ve them shoot 10 free throws each </a:t>
            </a:r>
            <a:endParaRPr b="0" lang="en-US" sz="3500" spc="-1" strike="noStrike">
              <a:solidFill>
                <a:srgbClr val="000000"/>
              </a:solidFill>
              <a:latin typeface="Times New Roman"/>
            </a:endParaRPr>
          </a:p>
          <a:p>
            <a:pPr lvl="2" marL="857160" indent="-2854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ecord results</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esting Procedure</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en players were tested using the same court, same ball, and same distance; I was able to get a percentage of their accuracy.  I divided the players into groups of 5; 5 players that were taller than 5'6" and 5 players that were shorter than 5'6".  I explained to each of them the rules and asked to try their best shooting skills.  They were given ten tried from the free throw line and data was recorded for shots made and shots miss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85c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ariable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ependant- Height of the shoo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ed- same court, same ball, same distan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pendant-the resul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D376</cp:lastModifiedBy>
  <dcterms:modified xsi:type="dcterms:W3CDTF">2011-03-11T14:28:32Z</dcterms:modified>
  <cp:revision>1</cp:revision>
  <dc:subject/>
  <dc:title>PowerPoint Presentation</dc:title>
</cp:coreProperties>
</file>